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8A4-8022-4B0F-BC9B-60EE0ACE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AF5-7FEE-4FF2-8D4B-CF303827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4F6-1262-49F0-81D8-23E1366C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349-2142-4D40-A535-61FC9145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AC53-3382-4952-832D-4C480CF5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9921-10E3-4345-8D9A-C610A19D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B6DE-FD9C-4D6D-A6C3-701420A9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3681-5D8B-4EC0-989C-E04FADF0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F1F3-C140-47FF-8AF3-D3BA1155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39AB-C01B-4E9E-B93E-677C1C73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07D7-30EF-4EBB-9763-088E929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EA6-FF9D-48DC-8010-223026BC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1286-4CE2-4DA2-91CC-4AE5666A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AB51-A945-41D8-8367-10306456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E434-A780-49D2-9F21-0FC731F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7813-E5A2-4A45-B7FD-205EBF64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4CD3-34C2-4F50-AA18-D05ECF2E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22F1-1419-47F8-8374-EF43EFA0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6FAC-C9FC-49DD-B8D6-4D80282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358F-56DB-4753-9D62-DB379474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DFBD-DD38-4324-B8EE-AD5E5223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27FD-7B6D-4B40-B177-885D9A59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51F-13D5-4033-A1C7-0204B806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3E09-98F6-45A8-89CA-DF5624C3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B5BA-06EE-4B46-93AB-10F7D97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D600-ADEA-495C-BB96-2610C85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2CA5-BD5F-449D-8B01-CCBFAED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D487-15C0-4C73-8C18-AF4E0CDB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B8CE-5527-4DFA-9F95-F60B2FE5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A607-254F-4D19-B45D-4367ADBE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EE5C-24DB-4DB9-AB13-C91081FA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A1BB-41FD-4DF3-B2E6-B4A0ED1C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930FB-15CB-4AB5-8B12-6754510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BB0-4205-4549-8B26-A055331C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76DB5-AA43-4548-B8F9-77BA81F6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9137-9C87-4D89-B7D6-C6DA905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28F1-C44D-481B-8FC1-D311FB0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21D4-B1B9-4C8F-BFFE-1555D8E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0DAC-A636-48E9-B45E-F2DB9FA9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C932-22A8-4C52-B763-0AB5FD8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3655-5DBA-4004-B785-CE7800F6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C877-45D4-4931-972C-B1408FE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407A-0AE5-4454-9F78-7971DCE4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9AD0-A562-48EE-8230-C85145F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27C-0BCC-4FFF-9CF5-EAC12C36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15A8-0773-4848-911F-25EA284F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734F-579E-41DD-82BE-5A32C9E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CE275-7398-486E-83F8-85FD70BB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CF17-FAB2-4C03-AF67-5235E5B0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FD8A-F9A5-4086-9401-47DF3C51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6784B-BA4C-4AC1-AC00-FE677A0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9864-F5F4-4E50-8FB6-82FCA5C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9370-3F78-4A79-87DA-3C29B53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C7B2-6B0D-44B4-9B4F-16EC5819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498F3-00E4-4275-9BE1-E1958E04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347-FD6A-4A8D-8B1A-71C0986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6E16-A3D7-4742-8D2D-679A160B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14A-3B9A-4CA3-90E9-3497699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6F1-5138-4B50-912A-27A6334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6BE-588A-48AE-BD20-723AAB7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1ABA-7E78-43B1-BB99-435802D61A28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6A37-385C-478A-BCA4-F530735AC5E0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CAE1-7AFA-49CD-85DE-31EAE73837BA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7CEB-9CFB-457E-859F-18EB51B2FE22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6D9-FBD5-4153-8DF0-31D64F3700AA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571920"/>
            <a:ext cx="6400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Kristen ITC"/>
              </a:rPr>
              <a:t>Do We Make a Difference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ffffff"/>
                </a:solidFill>
                <a:latin typeface="Kristen ITC"/>
              </a:rPr>
              <a:t>Making Tracks</a:t>
            </a:r>
            <a:endParaRPr b="0" lang="en-US" sz="7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4" name="Picture 5" descr="aboriginal flag.jpg"/>
          <p:cNvPicPr/>
          <p:nvPr/>
        </p:nvPicPr>
        <p:blipFill>
          <a:blip r:embed="rId1"/>
          <a:stretch/>
        </p:blipFill>
        <p:spPr>
          <a:xfrm>
            <a:off x="371520" y="3365640"/>
            <a:ext cx="1536480" cy="1498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australianflag.jpg"/>
          <p:cNvPicPr/>
          <p:nvPr/>
        </p:nvPicPr>
        <p:blipFill>
          <a:blip r:embed="rId2"/>
          <a:stretch/>
        </p:blipFill>
        <p:spPr>
          <a:xfrm>
            <a:off x="6772320" y="3382920"/>
            <a:ext cx="1622520" cy="126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footprints.jpg"/>
          <p:cNvPicPr/>
          <p:nvPr/>
        </p:nvPicPr>
        <p:blipFill>
          <a:blip r:embed="rId3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footprints.jpg"/>
          <p:cNvPicPr/>
          <p:nvPr/>
        </p:nvPicPr>
        <p:blipFill>
          <a:blip r:embed="rId4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footprints.jpg"/>
          <p:cNvPicPr/>
          <p:nvPr/>
        </p:nvPicPr>
        <p:blipFill>
          <a:blip r:embed="rId5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footprints.jpg"/>
          <p:cNvPicPr/>
          <p:nvPr/>
        </p:nvPicPr>
        <p:blipFill>
          <a:blip r:embed="rId6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footprints.jpg"/>
          <p:cNvPicPr/>
          <p:nvPr/>
        </p:nvPicPr>
        <p:blipFill>
          <a:blip r:embed="rId7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Kristen ITC"/>
              </a:rPr>
              <a:t>Are you read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By yourself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Look at each pictu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Do you know who these people ar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Match the pictures with the captions on your work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With your partn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Look at each picture aga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Compare your respons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Work together to match more pictures to the caption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footprints.jpg"/>
          <p:cNvPicPr/>
          <p:nvPr/>
        </p:nvPicPr>
        <p:blipFill>
          <a:blip r:embed="rId1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footprints.jpg"/>
          <p:cNvPicPr/>
          <p:nvPr/>
        </p:nvPicPr>
        <p:blipFill>
          <a:blip r:embed="rId2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footprints.jpg"/>
          <p:cNvPicPr/>
          <p:nvPr/>
        </p:nvPicPr>
        <p:blipFill>
          <a:blip r:embed="rId3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footprints.jpg"/>
          <p:cNvPicPr/>
          <p:nvPr/>
        </p:nvPicPr>
        <p:blipFill>
          <a:blip r:embed="rId4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footprints.jpg"/>
          <p:cNvPicPr/>
          <p:nvPr/>
        </p:nvPicPr>
        <p:blipFill>
          <a:blip r:embed="rId5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1" descr="ddunstan"/>
          <p:cNvPicPr/>
          <p:nvPr/>
        </p:nvPicPr>
        <p:blipFill>
          <a:blip r:embed="rId1"/>
          <a:stretch/>
        </p:blipFill>
        <p:spPr>
          <a:xfrm>
            <a:off x="3273480" y="1474920"/>
            <a:ext cx="1427040" cy="1365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onner"/>
          <p:cNvPicPr/>
          <p:nvPr/>
        </p:nvPicPr>
        <p:blipFill>
          <a:blip r:embed="rId2"/>
          <a:stretch/>
        </p:blipFill>
        <p:spPr>
          <a:xfrm>
            <a:off x="4011480" y="3395520"/>
            <a:ext cx="1163880" cy="1024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abor1"/>
          <p:cNvPicPr/>
          <p:nvPr/>
        </p:nvPicPr>
        <p:blipFill>
          <a:blip r:embed="rId3"/>
          <a:stretch/>
        </p:blipFill>
        <p:spPr>
          <a:xfrm>
            <a:off x="2925720" y="4840200"/>
            <a:ext cx="1401840" cy="1352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" descr="marymck"/>
          <p:cNvPicPr/>
          <p:nvPr/>
        </p:nvPicPr>
        <p:blipFill>
          <a:blip r:embed="rId4"/>
          <a:stretch/>
        </p:blipFill>
        <p:spPr>
          <a:xfrm>
            <a:off x="774720" y="3097080"/>
            <a:ext cx="1298520" cy="131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5" descr="YoungNed"/>
          <p:cNvPicPr/>
          <p:nvPr/>
        </p:nvPicPr>
        <p:blipFill>
          <a:blip r:embed="rId5"/>
          <a:stretch/>
        </p:blipFill>
        <p:spPr>
          <a:xfrm>
            <a:off x="7169040" y="2157480"/>
            <a:ext cx="1219320" cy="1639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7" descr="barry"/>
          <p:cNvPicPr/>
          <p:nvPr/>
        </p:nvPicPr>
        <p:blipFill>
          <a:blip r:embed="rId6"/>
          <a:stretch/>
        </p:blipFill>
        <p:spPr>
          <a:xfrm>
            <a:off x="5718240" y="1530360"/>
            <a:ext cx="1176120" cy="1182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Kristen ITC"/>
              </a:rPr>
              <a:t>Who Are W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5" name="Picture 31" descr="greer1"/>
          <p:cNvPicPr/>
          <p:nvPr/>
        </p:nvPicPr>
        <p:blipFill>
          <a:blip r:embed="rId7"/>
          <a:stretch/>
        </p:blipFill>
        <p:spPr>
          <a:xfrm>
            <a:off x="1365120" y="4675320"/>
            <a:ext cx="1146240" cy="1201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5" descr="cawley"/>
          <p:cNvPicPr/>
          <p:nvPr/>
        </p:nvPicPr>
        <p:blipFill>
          <a:blip r:embed="rId8"/>
          <a:stretch/>
        </p:blipFill>
        <p:spPr>
          <a:xfrm>
            <a:off x="1359000" y="1816200"/>
            <a:ext cx="1109520" cy="1212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4" descr="fred_n2"/>
          <p:cNvPicPr/>
          <p:nvPr/>
        </p:nvPicPr>
        <p:blipFill>
          <a:blip r:embed="rId9"/>
          <a:stretch/>
        </p:blipFill>
        <p:spPr>
          <a:xfrm>
            <a:off x="5668920" y="4737240"/>
            <a:ext cx="1487520" cy="158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8" descr="pharlp63sm"/>
          <p:cNvPicPr/>
          <p:nvPr/>
        </p:nvPicPr>
        <p:blipFill>
          <a:blip r:embed="rId10"/>
          <a:stretch/>
        </p:blipFill>
        <p:spPr>
          <a:xfrm>
            <a:off x="7412040" y="398160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footprints.jpg"/>
          <p:cNvPicPr/>
          <p:nvPr/>
        </p:nvPicPr>
        <p:blipFill>
          <a:blip r:embed="rId11"/>
          <a:stretch/>
        </p:blipFill>
        <p:spPr>
          <a:xfrm>
            <a:off x="378612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footprints.jpg"/>
          <p:cNvPicPr/>
          <p:nvPr/>
        </p:nvPicPr>
        <p:blipFill>
          <a:blip r:embed="rId12"/>
          <a:stretch/>
        </p:blipFill>
        <p:spPr>
          <a:xfrm>
            <a:off x="528624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footprints.jpg"/>
          <p:cNvPicPr/>
          <p:nvPr/>
        </p:nvPicPr>
        <p:blipFill>
          <a:blip r:embed="rId13"/>
          <a:stretch/>
        </p:blipFill>
        <p:spPr>
          <a:xfrm>
            <a:off x="678672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footprints.jpg"/>
          <p:cNvPicPr/>
          <p:nvPr/>
        </p:nvPicPr>
        <p:blipFill>
          <a:blip r:embed="rId14"/>
          <a:stretch/>
        </p:blipFill>
        <p:spPr>
          <a:xfrm>
            <a:off x="228600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footprints.jpg"/>
          <p:cNvPicPr/>
          <p:nvPr/>
        </p:nvPicPr>
        <p:blipFill>
          <a:blip r:embed="rId15"/>
          <a:stretch/>
        </p:blipFill>
        <p:spPr>
          <a:xfrm>
            <a:off x="78588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8" descr="pharlp63sm"/>
          <p:cNvPicPr/>
          <p:nvPr/>
        </p:nvPicPr>
        <p:blipFill>
          <a:blip r:embed="rId16"/>
          <a:stretch/>
        </p:blipFill>
        <p:spPr>
          <a:xfrm>
            <a:off x="7564320" y="4133880"/>
            <a:ext cx="10796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Kristen ITC"/>
              </a:rPr>
              <a:t>Who Are W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5" descr="mabo2"/>
          <p:cNvPicPr/>
          <p:nvPr/>
        </p:nvPicPr>
        <p:blipFill>
          <a:blip r:embed="rId1"/>
          <a:stretch/>
        </p:blipFill>
        <p:spPr>
          <a:xfrm>
            <a:off x="1085760" y="4316400"/>
            <a:ext cx="1230480" cy="1359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joan"/>
          <p:cNvPicPr/>
          <p:nvPr/>
        </p:nvPicPr>
        <p:blipFill>
          <a:blip r:embed="rId2"/>
          <a:stretch/>
        </p:blipFill>
        <p:spPr>
          <a:xfrm>
            <a:off x="2567160" y="4591080"/>
            <a:ext cx="1339560" cy="15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dawn"/>
          <p:cNvPicPr/>
          <p:nvPr/>
        </p:nvPicPr>
        <p:blipFill>
          <a:blip r:embed="rId3"/>
          <a:stretch/>
        </p:blipFill>
        <p:spPr>
          <a:xfrm>
            <a:off x="4913280" y="4840200"/>
            <a:ext cx="1049400" cy="101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lawson2"/>
          <p:cNvPicPr/>
          <p:nvPr/>
        </p:nvPicPr>
        <p:blipFill>
          <a:blip r:embed="rId4"/>
          <a:stretch/>
        </p:blipFill>
        <p:spPr>
          <a:xfrm>
            <a:off x="6224760" y="107316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victor1"/>
          <p:cNvPicPr/>
          <p:nvPr/>
        </p:nvPicPr>
        <p:blipFill>
          <a:blip r:embed="rId5"/>
          <a:stretch/>
        </p:blipFill>
        <p:spPr>
          <a:xfrm>
            <a:off x="7126200" y="3193920"/>
            <a:ext cx="1079640" cy="118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bradman2"/>
          <p:cNvPicPr/>
          <p:nvPr/>
        </p:nvPicPr>
        <p:blipFill>
          <a:blip r:embed="rId6"/>
          <a:stretch/>
        </p:blipFill>
        <p:spPr>
          <a:xfrm>
            <a:off x="4151160" y="1390680"/>
            <a:ext cx="1163880" cy="1273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whitlam2"/>
          <p:cNvPicPr/>
          <p:nvPr/>
        </p:nvPicPr>
        <p:blipFill>
          <a:blip r:embed="rId7"/>
          <a:stretch/>
        </p:blipFill>
        <p:spPr>
          <a:xfrm>
            <a:off x="560520" y="2382840"/>
            <a:ext cx="1334880" cy="1792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http://users.sa.chariot.net.au/~michaelc/Elizabeth/paterson3.gif"/>
          <p:cNvPicPr/>
          <p:nvPr/>
        </p:nvPicPr>
        <p:blipFill>
          <a:blip r:embed="rId8"/>
          <a:stretch/>
        </p:blipFill>
        <p:spPr>
          <a:xfrm>
            <a:off x="6649920" y="4443480"/>
            <a:ext cx="1274760" cy="1622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Vida Goldstein"/>
          <p:cNvPicPr/>
          <p:nvPr/>
        </p:nvPicPr>
        <p:blipFill>
          <a:blip r:embed="rId9"/>
          <a:stretch/>
        </p:blipFill>
        <p:spPr>
          <a:xfrm>
            <a:off x="2054160" y="1554120"/>
            <a:ext cx="981000" cy="1401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Matthew Flinders"/>
          <p:cNvPicPr/>
          <p:nvPr/>
        </p:nvPicPr>
        <p:blipFill>
          <a:blip r:embed="rId10"/>
          <a:stretch/>
        </p:blipFill>
        <p:spPr>
          <a:xfrm>
            <a:off x="3724200" y="3395520"/>
            <a:ext cx="1451160" cy="1121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footprints.jpg"/>
          <p:cNvPicPr/>
          <p:nvPr/>
        </p:nvPicPr>
        <p:blipFill>
          <a:blip r:embed="rId11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footprints.jpg"/>
          <p:cNvPicPr/>
          <p:nvPr/>
        </p:nvPicPr>
        <p:blipFill>
          <a:blip r:embed="rId12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0" descr="footprints.jpg"/>
          <p:cNvPicPr/>
          <p:nvPr/>
        </p:nvPicPr>
        <p:blipFill>
          <a:blip r:embed="rId13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1" descr="footprints.jpg"/>
          <p:cNvPicPr/>
          <p:nvPr/>
        </p:nvPicPr>
        <p:blipFill>
          <a:blip r:embed="rId14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footprints.jpg"/>
          <p:cNvPicPr/>
          <p:nvPr/>
        </p:nvPicPr>
        <p:blipFill>
          <a:blip r:embed="rId15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4" name="Picture 5" descr="aboriginal flag.jpg"/>
          <p:cNvPicPr/>
          <p:nvPr/>
        </p:nvPicPr>
        <p:blipFill>
          <a:blip r:embed="rId1"/>
          <a:stretch/>
        </p:blipFill>
        <p:spPr>
          <a:xfrm>
            <a:off x="1536840" y="2779560"/>
            <a:ext cx="2273040" cy="215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australianflag.jpg"/>
          <p:cNvPicPr/>
          <p:nvPr/>
        </p:nvPicPr>
        <p:blipFill>
          <a:blip r:embed="rId2"/>
          <a:stretch/>
        </p:blipFill>
        <p:spPr>
          <a:xfrm>
            <a:off x="4700520" y="2792520"/>
            <a:ext cx="2548080" cy="1950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footprints.jpg"/>
          <p:cNvPicPr/>
          <p:nvPr/>
        </p:nvPicPr>
        <p:blipFill>
          <a:blip r:embed="rId3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footprints.jpg"/>
          <p:cNvPicPr/>
          <p:nvPr/>
        </p:nvPicPr>
        <p:blipFill>
          <a:blip r:embed="rId4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footprints.jpg"/>
          <p:cNvPicPr/>
          <p:nvPr/>
        </p:nvPicPr>
        <p:blipFill>
          <a:blip r:embed="rId5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footprints.jpg"/>
          <p:cNvPicPr/>
          <p:nvPr/>
        </p:nvPicPr>
        <p:blipFill>
          <a:blip r:embed="rId6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footprints.jpg"/>
          <p:cNvPicPr/>
          <p:nvPr/>
        </p:nvPicPr>
        <p:blipFill>
          <a:blip r:embed="rId7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0:47:36Z</dcterms:created>
  <dc:creator>GTAC</dc:creator>
  <dc:description/>
  <dc:language>en-US</dc:language>
  <cp:lastModifiedBy>Kerrie Opray</cp:lastModifiedBy>
  <dcterms:modified xsi:type="dcterms:W3CDTF">2007-11-12T11:48:38Z</dcterms:modified>
  <cp:revision>24</cp:revision>
  <dc:subject/>
  <dc:title>Making Tracks</dc:title>
</cp:coreProperties>
</file>